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png" ContentType="image/png"/>
  <Override PartName="/ppt/media/image4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8115-3272-4109-9ADC-E89FFFC27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4293-10C6-4428-883C-7EE847E8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B376-7073-4599-A6AD-3583550CA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F379-2CD1-41DE-AC5F-DDB130A01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F5BFC7-DB48-4A9D-B85C-1BBC3DABE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6543F-3E3C-45E2-85D6-633CE9C4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4D5E4-ACCE-4588-8E98-10421327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649A0-FD08-43D3-9414-68F265EA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37238-B46C-4CEC-8734-5202F90F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6899E-545A-48AC-88C8-3EB25E72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42AFF-7D4A-44C6-B62E-6B972779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7EA5-C172-463B-8DD4-7BFD2AAF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1227F-A930-4D2E-B035-6AE0795A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EE6DF-C835-4DD0-AEAA-BA77362D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E3D14-4154-46BE-A2ED-142886EA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C8479-C0F8-4C86-9E31-1ADE9BBDE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1EDB7-DB25-4C25-AEF7-DE8582962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FEE3A-81C4-4521-9346-DF18257FA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8161F-F457-4A3D-B5F6-0813B8A6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49977-AAD0-407F-978A-23DFB312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7E180-0FC4-4BB2-BCE8-B60D7D0E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B8404-F541-4712-8962-07CB6687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EE8B-4D18-495E-BC50-9BDA3E9D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0EDE7-7EF6-4B1D-A63E-1FF5145C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E76BE-0AB7-4DF9-92D9-6ABD0CE6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602FE-DD38-430A-B266-E43964A3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1D9D1-8073-4204-ACAB-30AF7173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51D84-53C9-4A9F-AA54-4D21569E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8AEF0-77A5-43BB-B356-C80B88DF7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682F4-F80E-473C-A84E-1E97C228D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F97ED0-2F3D-4272-96B9-77BEFEBD6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7D7A62-6A34-4128-9837-39DA71D2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60C537-24F8-4B58-8C09-0939E469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5267-454F-4C5D-9A02-AAF7F6E8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0D8AFA-59BC-43BC-9DE9-F3F31F9F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F0162B-AD6B-424B-936F-10B8B9FD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B6CD40-3E66-4B2B-A918-802932C9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0C9C3A-E40D-4190-9FF2-E2B34572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5D764C-D19A-46AB-9534-61692EAF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2ACC6A-C462-4E38-95D9-057F074A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6C02A4-9294-4920-B32A-C16DCA19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95AAC5-2995-4962-A378-701E88B6B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D7824F-24F8-4948-9D7D-02C3D5EAA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7A6E-F832-4ACC-8104-C7613274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B334-A5EB-42DA-8399-B46032C0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DE83-265A-4552-942A-814A24CF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2A68-5A91-490A-A5E4-7C6D4F77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9F60-A2E3-421D-B657-C703235E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006E-8630-4918-91BB-6758424B6B63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EC07-C6E6-4C06-9673-2D1563C89B00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8679-1D78-44E2-89CC-FE55A07CBE04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B6AC-7807-47A4-944A-693ADD6D670D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932000" y="4868640"/>
            <a:ext cx="38307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Презентацию подготовила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Л.Е. Агеев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457200" y="262080"/>
            <a:ext cx="8308800" cy="1944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http://www.diveevo.ru/objects/news_img_file_3426_b.jpg"/>
          <p:cNvPicPr/>
          <p:nvPr/>
        </p:nvPicPr>
        <p:blipFill>
          <a:blip r:embed="rId2"/>
          <a:stretch/>
        </p:blipFill>
        <p:spPr>
          <a:xfrm>
            <a:off x="1116000" y="1773360"/>
            <a:ext cx="380988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Содержимое 3" descr="савва.jpg"/>
          <p:cNvPicPr/>
          <p:nvPr/>
        </p:nvPicPr>
        <p:blipFill>
          <a:blip r:embed="rId1"/>
          <a:stretch/>
        </p:blipFill>
        <p:spPr>
          <a:xfrm>
            <a:off x="5286240" y="357120"/>
            <a:ext cx="3576600" cy="557388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3"/>
          <p:cNvSpPr/>
          <p:nvPr/>
        </p:nvSpPr>
        <p:spPr>
          <a:xfrm>
            <a:off x="214200" y="-91080"/>
            <a:ext cx="49294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Саввино-Сторожевский монастырь в войну 1812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года. При любом нашествии с Запада Саввино-Сторожевский монастырь оказывался 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самом эпицентре событий. В конце августа 1812 года в обители разместился штаб 4-го корпуса французской армии во главе с командиром — вице-королем Италии Евгением Богарне. С этим человеком произошло событие, которое церковное предание сохраняет как одно из самых удивительных чудес преподобного Саввы Сторожевского. Сын Евгения Богарне записал рассказ своего отца об этом чудесном событи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Содержимое 3" descr="савва.jpg"/>
          <p:cNvPicPr/>
          <p:nvPr/>
        </p:nvPicPr>
        <p:blipFill>
          <a:blip r:embed="rId1"/>
          <a:stretch/>
        </p:blipFill>
        <p:spPr>
          <a:xfrm>
            <a:off x="5715000" y="642960"/>
            <a:ext cx="3138480" cy="542916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"/>
          <p:cNvSpPr/>
          <p:nvPr/>
        </p:nvSpPr>
        <p:spPr>
          <a:xfrm>
            <a:off x="214200" y="-76680"/>
            <a:ext cx="5429520" cy="68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Constantia"/>
              </a:rPr>
              <a:t>Чудо преподобного Саввы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ffffff"/>
                </a:solidFill>
                <a:latin typeface="Constantia"/>
              </a:rPr>
              <a:t>«Было уже около десяти часов вечера. Отец мой, утомленный от большого перехода, отправился спать. Вскоре (он не мог припомнить, во сне или наяву) он увидел, что отворяется дверь, в его комнату входит тихими шагами человек в черной длинной одежде, подходит к нему так близко, что он мог при лунном свете разглядеть черты его лица. Около минуты стоял он, как бы рассматривая принца, наконец тихим голосом сказал: «Не вели войску своему расхищать монастырь и особенно - уносить что-нибудь из церкви. Если ты исполнишь мою просьбу, то Бог тебя помилует, и ты возвратишься в свое отечество целым и невредимым». Сказав это, старец тихо вышел из комнаты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Содержимое 3" descr="савва.jpg"/>
          <p:cNvPicPr/>
          <p:nvPr/>
        </p:nvPicPr>
        <p:blipFill>
          <a:blip r:embed="rId1"/>
          <a:stretch/>
        </p:blipFill>
        <p:spPr>
          <a:xfrm>
            <a:off x="6357960" y="500040"/>
            <a:ext cx="2473200" cy="60260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"/>
          <p:cNvSpPr/>
          <p:nvPr/>
        </p:nvSpPr>
        <p:spPr>
          <a:xfrm>
            <a:off x="214200" y="-123480"/>
            <a:ext cx="54295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. Принц, проснувшись на рассвете, сейчас же вспомнил это видение... Пошел посмотреть церковь, у входа которой стояли часовые. Войдя в храм, он увидел гробницу и образ, который поразил его сходством с человеком, представившимся ему ночью. На вопрос его, чей это портрет, один из бывших тут монахов отвечал, что это образ святого Саввы, основателя монастыря, тело которого лежит в этой гробнице. Услышав это, принц с благоговением поклонился мощам святого и записал его имя в своей памятной книжке...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Содержимое 3" descr="савва.jpg"/>
          <p:cNvPicPr/>
          <p:nvPr/>
        </p:nvPicPr>
        <p:blipFill>
          <a:blip r:embed="rId1"/>
          <a:stretch/>
        </p:blipFill>
        <p:spPr>
          <a:xfrm>
            <a:off x="1357200" y="642960"/>
            <a:ext cx="64296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Содержимое 3" descr="савва.jpg"/>
          <p:cNvPicPr/>
          <p:nvPr/>
        </p:nvPicPr>
        <p:blipFill>
          <a:blip r:embed="rId1"/>
          <a:stretch/>
        </p:blipFill>
        <p:spPr>
          <a:xfrm>
            <a:off x="785880" y="928800"/>
            <a:ext cx="750240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Содержимое 3" descr="савва.jpg"/>
          <p:cNvPicPr/>
          <p:nvPr/>
        </p:nvPicPr>
        <p:blipFill>
          <a:blip r:embed="rId1"/>
          <a:stretch/>
        </p:blipFill>
        <p:spPr>
          <a:xfrm>
            <a:off x="2286000" y="357120"/>
            <a:ext cx="4214880" cy="63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3"/>
          <p:cNvSpPr/>
          <p:nvPr/>
        </p:nvSpPr>
        <p:spPr>
          <a:xfrm>
            <a:off x="395280" y="333360"/>
            <a:ext cx="83534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литва  преподобному Савве, игумен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рожевскому, Звенигородскому Чудотворц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, пречестная и священная главо, небеснаго Иерусалима гражданине, Пресвятыя Троицы обиталище, преподобне отче Савво! Велие имея дерзновение ко Всемилостивому Владыце, молися о стаде ограды твоея и о всех, по духу, чадех твоих: не премолчи вопия за ны ко Господу и не презри верою и любовию чтущих тя. Испроси, предстатсльством твоим, у Царя царствующих мир Церкви, под знаменем Креста воинствующей; архиереем святительства благолепие; монашествующим доброе в подвизех течение; граду сему и всем градом и странам охранение, миру безмятежие и мир, глада и пагубы избавление; старым и немощным утешение и подкрепление; юным и младенцем благое в вере возрастание, в евангельском учении твердое обучение и в чистоте и целомудрии пребывание; вдовицам и сиротам милость и заступление; плененным отраду и возвращение; болящим исцеление; согрешающим дух сокрушения; бедствующим и всем; благодатной помощи требующим; благовременную помощь. Не посрами нас, к тебе с верою притекающих: споспешествуй, яко чадолюбивый отец чадом, и нам понести иго Христово во благодушии и терпении и всех управи в мире и покаянии скончати живот свой непостыдно и преселитися, со упованием, во обители небесныя, идеже ты, по трудех и подвизех, ныне водворяешися со ангелы и святыми, зря и прославляя Бога, в Троице славимаго, Отца и Сына и Святаго Духа. Амин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456840" y="1600200"/>
            <a:ext cx="8258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то стал основателем Саввино-Сторожевского монастыря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акие иконы написал для монастыря Андрей Рублёв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сскажите о чуде преподобного Савв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Содержимое 3" descr="савва.jpg"/>
          <p:cNvPicPr/>
          <p:nvPr/>
        </p:nvPicPr>
        <p:blipFill>
          <a:blip r:embed="rId1"/>
          <a:stretch/>
        </p:blipFill>
        <p:spPr>
          <a:xfrm>
            <a:off x="1187280" y="260280"/>
            <a:ext cx="6357960" cy="510084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3"/>
          <p:cNvSpPr/>
          <p:nvPr/>
        </p:nvSpPr>
        <p:spPr>
          <a:xfrm>
            <a:off x="285840" y="536220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пишите картину И.И. Левитана, написанную под впечатлением посещения окрестностей Саввино-Сторожевского монастыря. (стр.12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Содержимое 3" descr="савва.jpg"/>
          <p:cNvPicPr/>
          <p:nvPr/>
        </p:nvPicPr>
        <p:blipFill>
          <a:blip r:embed="rId1"/>
          <a:stretch/>
        </p:blipFill>
        <p:spPr>
          <a:xfrm>
            <a:off x="2627280" y="549360"/>
            <a:ext cx="3640320" cy="43765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3"/>
          <p:cNvSpPr/>
          <p:nvPr/>
        </p:nvSpPr>
        <p:spPr>
          <a:xfrm>
            <a:off x="214200" y="4982040"/>
            <a:ext cx="8678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Одним из ближайших учеников преподобного Сергия Радонежского был преподобный Савва. Будущий великий святой пришел в обитель преподобного Сергия, совсем юным. Ему было не более восемнадцати лет, когда около 1345 года он принял монашеский постриг и был назван в честь подвижника древности преподобного Саввы Освященно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приложение3.wav" descr=""/>
          <p:cNvPicPr/>
          <p:nvPr/>
        </p:nvPicPr>
        <p:blipFill>
          <a:blip r:embed="rId2"/>
          <a:stretch/>
        </p:blipFill>
        <p:spPr>
          <a:xfrm>
            <a:off x="8572680" y="63579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1454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Содержимое 3" descr="савва.jpg"/>
          <p:cNvPicPr/>
          <p:nvPr/>
        </p:nvPicPr>
        <p:blipFill>
          <a:blip r:embed="rId1"/>
          <a:stretch/>
        </p:blipFill>
        <p:spPr>
          <a:xfrm>
            <a:off x="3132000" y="404640"/>
            <a:ext cx="3502080" cy="478656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3"/>
          <p:cNvSpPr/>
          <p:nvPr/>
        </p:nvSpPr>
        <p:spPr>
          <a:xfrm>
            <a:off x="214200" y="5271480"/>
            <a:ext cx="8534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nstantia"/>
              </a:rPr>
              <a:t>После смерти преподобного Сергия преподобный Савва стал настоятелем Троице-Сергиевой обители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Содержимое 3" descr="савва.jpg"/>
          <p:cNvPicPr/>
          <p:nvPr/>
        </p:nvPicPr>
        <p:blipFill>
          <a:blip r:embed="rId1"/>
          <a:stretch/>
        </p:blipFill>
        <p:spPr>
          <a:xfrm>
            <a:off x="1908000" y="476280"/>
            <a:ext cx="5829480" cy="38894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3"/>
          <p:cNvSpPr/>
          <p:nvPr/>
        </p:nvSpPr>
        <p:spPr>
          <a:xfrm>
            <a:off x="214200" y="4334040"/>
            <a:ext cx="871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Первый храм монастыря, построенный в 1405 году среди векового леса, был посвящен Рождеству Пресвятой Богородицы, так как именно Ей горячо молился преподобный Савва, прося о помощи. Подавая пример инокам, он выполнял все необходимые работы, предостерегая всех от празд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Содержимое 3" descr="савва.jpg"/>
          <p:cNvPicPr/>
          <p:nvPr/>
        </p:nvPicPr>
        <p:blipFill>
          <a:blip r:embed="rId1"/>
          <a:stretch/>
        </p:blipFill>
        <p:spPr>
          <a:xfrm>
            <a:off x="3276720" y="260280"/>
            <a:ext cx="3193920" cy="478656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214200" y="4803840"/>
            <a:ext cx="8750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реподобный Савва скончался 3 декабря 1406 года, дожив до глубокой старости. Шестьдесят лет он прожил в монашеском подвиге. Его похоронили в белокаменном соборе в честь Рождества Пресвятой Богороди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Содержимое 3" descr="савва.jpg"/>
          <p:cNvPicPr/>
          <p:nvPr/>
        </p:nvPicPr>
        <p:blipFill>
          <a:blip r:embed="rId1"/>
          <a:stretch/>
        </p:blipFill>
        <p:spPr>
          <a:xfrm>
            <a:off x="1908000" y="333360"/>
            <a:ext cx="5286600" cy="352584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3"/>
          <p:cNvSpPr/>
          <p:nvPr/>
        </p:nvSpPr>
        <p:spPr>
          <a:xfrm>
            <a:off x="214200" y="4061880"/>
            <a:ext cx="8715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На том месте, где был построен монастырь, прежде находился пост со Сторожевой башней и висел колокол, предупреждавший о приближении врагов. Возможно, и название города Звенигорода произошло из сочетания двух слов «звени» и «гора» и связано с этим колоколом на Сторожевой горе. Название монастыря связано с его расположением на месте Сторожевой башни на Сторожевой горе и с памятью первого игумена монастыря – Саввы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Содержимое 3" descr="савва.jpg"/>
          <p:cNvPicPr/>
          <p:nvPr/>
        </p:nvPicPr>
        <p:blipFill>
          <a:blip r:embed="rId1"/>
          <a:stretch/>
        </p:blipFill>
        <p:spPr>
          <a:xfrm>
            <a:off x="5786280" y="785880"/>
            <a:ext cx="2922840" cy="53402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214200" y="243720"/>
            <a:ext cx="52149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Духовная красота преподобного Саввы Сторожевского во все времена привлекала в монастырь многих людей. Подолгу жил в нем иконописец Андрей Рублёв, которого князь Юрий Звенигородский пригласил в свои владения для писания икон. Для Рождественского собора им было написано семь икон, получивших название «Звенигородский чин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Содержимое 3" descr="савва.jpg"/>
          <p:cNvPicPr/>
          <p:nvPr/>
        </p:nvPicPr>
        <p:blipFill>
          <a:blip r:embed="rId1"/>
          <a:stretch/>
        </p:blipFill>
        <p:spPr>
          <a:xfrm>
            <a:off x="4714920" y="500040"/>
            <a:ext cx="3672000" cy="573084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3"/>
          <p:cNvSpPr/>
          <p:nvPr/>
        </p:nvSpPr>
        <p:spPr>
          <a:xfrm>
            <a:off x="500040" y="1091160"/>
            <a:ext cx="3786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До нашего времени сохранились только три из них: «Спаситель», «Архангел Михаил», «Апостол Павел». Они находятся в Третьяковской галере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Содержимое 3" descr="савва.jpg"/>
          <p:cNvPicPr/>
          <p:nvPr/>
        </p:nvPicPr>
        <p:blipFill>
          <a:blip r:embed="rId1"/>
          <a:stretch/>
        </p:blipFill>
        <p:spPr>
          <a:xfrm>
            <a:off x="1258920" y="260280"/>
            <a:ext cx="6357960" cy="424044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3"/>
          <p:cNvSpPr/>
          <p:nvPr/>
        </p:nvSpPr>
        <p:spPr>
          <a:xfrm>
            <a:off x="214200" y="4184640"/>
            <a:ext cx="8715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Монастырь помогал многим людям: при монастыре был построен странноприимный дом для престарелых и больных, богадельня, две гостиницы, книжная лавка, иконописная и картинная мастерские. Происходило немало чудес и исцелений в монастыре, на святом источнике, по преданию, вырытом самим преподоб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09:03:03Z</dcterms:created>
  <dc:creator>я</dc:creator>
  <dc:description/>
  <dc:language>en-US</dc:language>
  <cp:lastModifiedBy>Лариса</cp:lastModifiedBy>
  <dcterms:modified xsi:type="dcterms:W3CDTF">2023-09-13T07:23:23Z</dcterms:modified>
  <cp:revision>53</cp:revision>
  <dc:subject/>
  <dc:title>Западное Подмосковье. К звенигородскому чудотворцу преподобному  Савве Сторожевскому.</dc:title>
</cp:coreProperties>
</file>